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528-00CA-4030-998D-FAF4911D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68C-E986-49D1-A847-EE6660F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A65A1-CFD2-4C5C-977F-3CA08383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3D582-D238-4B13-88CA-A65EC203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157D-3051-4328-A4C6-EB2C65B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4519-5228-4AE4-B823-45822BD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1AAE3-565C-4D28-A092-0EEE043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B8EA1-79D9-4313-8E5F-747536D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FB56-4A2C-4154-8D12-3D63356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2AF5B-565E-4E60-8E3E-F44FABBA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D47A7-56E9-4148-BA4A-07D4BF98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0EA-C679-412E-A9D4-2D5CD477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F31-38BF-4D36-9E5F-89366199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6CB-A7D5-446A-83B6-EEE234D9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34A-EDCD-48B8-99DB-E67EB911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5B8-FCB0-4C87-8A12-013F921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A15-ED86-4F08-9A2A-1D5D8B3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241C-01F5-4B51-8F11-3B9122B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B7E-ED87-48A1-943D-4A631244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632-C4A3-4235-BE45-79D91C9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A02-9EDA-4047-883F-C47DC419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FA6-CFA2-443D-A515-D35F6B5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EC2-FDB6-40E5-AB60-62CBF32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7901-8D81-4E28-B024-C6DCC51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CC2F-6B4D-4448-8F32-9CD5F3CD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DC8-D48C-49E2-ACCB-0208B527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592A-BA78-4E54-B224-E2C89292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0610-BBB8-46EA-9101-7868EA7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A702-040D-4198-8E19-FC70BF73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E501-A912-4F5E-B504-782909A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9AEB-A100-41DD-BA24-38E24CE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529-E1C7-43E0-AF4A-2F16295D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D7CE-8CBB-4758-BD97-D66ADF3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9192-4FF7-4319-8529-DFA85FB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64BB-E6F5-46A7-BB8F-E415D18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DBB1-5090-40D9-AF39-234BB4F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1CDD-C1A7-4D60-8CF0-FD93374E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21E5-1820-406F-8366-ABDA41DF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423C-FA92-4E0D-A843-CE4170AB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DE3F-15AB-4F59-8D2D-FFB65C41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B61D-B70A-47F2-80A9-3869DAA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4C15-5D5B-4FA3-9F5F-0B17F1A4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D87-B015-4134-90EA-F027FA2B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1EE8-CA2E-4826-9204-015CCD4A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9999-3B39-49CA-A586-F3A66AF5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0D10-063C-40F3-B971-0B07DB68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BF2E-1889-4817-B6B9-411C709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4EC3-91B5-4DB8-A368-24AFA44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1B30-DB92-4E24-9D6B-5854315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0725-D6BD-48D6-BCC8-397BB1B7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8BEB0-86FE-4BCB-BA18-4899F8F1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0F9D-56CB-421D-9770-71F0475C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212B-257B-4BA9-A5B9-D5EA07F7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C31-CA1C-4F03-8100-881593BA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0418-61FF-41DB-9BC0-0218230B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04FF-6B51-459F-87D7-1F92973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10F5-34C8-4636-8139-403343ED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1F51-9983-4668-B057-FE1C668A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7E762-A097-4803-B73E-95C2F52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11F3-A10B-4B83-96B9-88190C4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CE40-3415-4732-B06E-DB415A2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0096-5B7D-4187-82D6-CFC1325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B882E-46A4-46BC-9755-FD54F69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9B47-05C9-4E59-95FC-27BFB789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089-6185-4328-95B4-9CE185F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A21C-5479-4C37-8890-9677CA85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23DA-E666-45E9-9019-FE01B3BC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C4BB-D3BA-417E-AD9F-2979D4B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9079-733A-488F-877A-F1FC0E0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A9F78-A2CE-4772-B968-D132660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6813-B59E-413B-9E52-B042632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E610-1D7E-4D66-9D3F-C504F3BE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E31C6-EE19-4238-99E7-6F1D0C1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3841-E1A2-4697-BE99-FF89620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E1D1-5488-487F-AC21-8722EB27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19B-7CA4-45F7-AC44-B84D782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F68E-6738-4CBE-86F9-DF1C2AB7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D7DE-29F0-40C0-B691-FB15D822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01AC-9373-4CC7-AE5A-6084275B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927D9-7B1B-416D-B81C-900A73E4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7EE2-A694-4396-AA88-4A2436FE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5573-DA54-4414-8DE1-25DE5F1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A515-2986-4399-BC8B-0CBEAB8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6294-3EC1-4892-A80F-1FDD6A0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50072-2FD4-42C5-84BB-9BFC90E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09461-536A-4179-9301-93C489A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783-B727-4006-9741-56E9AD8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B887-37DC-46C2-A24C-F367F01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6D9B-33CD-40B6-B41B-548A0CB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4AC5-D02C-4310-AB8E-CAD0D40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C4FAD-504D-4DB5-AACB-5746133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F6AA-4FEF-4141-BE70-62423100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6CC48-8672-4B15-B9EF-289DC0CC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CBA9-8C0C-4342-96FB-6ED0015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FC8B-2B94-4DC5-BFCC-E30E1BEB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BA413-5241-4B5A-A33A-8C66391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A774-7748-40B4-BFEB-61B83956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9DA-B43B-4FAF-B6DE-38D4BDD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A439-9230-4EC1-987F-E69E2AC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BFCE-15FD-4EFD-950B-AEB42E0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691B9-398D-43FC-8A95-94714D6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103B-AB46-4F27-BC67-B324AA8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6C21-2F78-4A88-BEB7-511AB5C3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866D2-A849-47E2-B3A0-78CE349E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3857-5B95-4F81-9520-53F5E989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35E7-F9BA-4AC2-8255-D9B846B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EF55-C8BC-44D5-9CF5-5C411A68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2B04B-8991-4E1C-8D95-91F710D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0962-D50D-4010-B5A1-CD7326963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54C-3748-4312-8E9E-49DD74CA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942-EE30-4EC5-A8C6-18158A452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824C-5A99-4059-A38D-03E5B213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548-69E9-4CC8-A895-3B7F7557B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2B58-E90D-4CE2-A00E-4D18662F2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B98-4608-4714-BFBE-376F9F9CC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ECA-3AE7-488F-BB71-D49B8CE05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CEA5-B552-488C-98F0-41B81F7BC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c1c1c"/>
                </a:solidFill>
                <a:latin typeface="ChickenScratch AOE"/>
              </a:rPr>
              <a:t>10.4: complex numbers</a:t>
            </a:r>
            <a:endParaRPr b="0" lang="en-US" sz="96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kenScratch AOE"/>
              </a:rPr>
              <a:t>November 2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a couple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i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12-4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52-6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complex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hickenScratch AOE"/>
              </a:rPr>
              <a:t>What is an imaginary number?</a:t>
            </a:r>
            <a:endParaRPr b="0" lang="en-US" sz="48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quare root of a negative is an imaginary nu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(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n is a real numb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√n(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√n *√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√n *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i√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What is a complex number?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number is a number written in th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+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and b are real numbers and i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+4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i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hickenScratch AOE"/>
              </a:rPr>
              <a:t>Adding and subtracting complex numbers</a:t>
            </a:r>
            <a:endParaRPr b="0" lang="en-US" sz="48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or subtract the real parts (regular num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 or subtract the imaginary parts (the ones with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i+2)+(10i+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i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i+10)-(12i-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i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a few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-7i)+(3-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+(-2+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4+3i) – (-2-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Multiplying complex number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i * i =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+i)(4-2i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-6i+4i-2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-2i – 2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-2i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4 -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these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+3i)(7-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i-1)(6-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-2i)(3+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Dividing complex number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numerator and the denominator so that the denominator no longer has a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+9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+9i (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i (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i+27i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i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i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9:02:23Z</dcterms:created>
  <dc:creator>nuhs</dc:creator>
  <dc:description/>
  <dc:language>en-US</dc:language>
  <cp:lastModifiedBy>nuhs</cp:lastModifiedBy>
  <dcterms:modified xsi:type="dcterms:W3CDTF">2007-11-20T20:25:38Z</dcterms:modified>
  <cp:revision>4</cp:revision>
  <dc:subject/>
  <dc:title>10.4: complex numbers</dc:title>
</cp:coreProperties>
</file>